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AA7-E645-4CB6-8F69-D862FF23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680-5BF1-47C5-884A-02D83945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CBE-F34C-42E8-B1DE-1EA83F92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090-C31E-4640-8ADF-45581A01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3FE2-4CDA-4DA5-BB5E-7F0F62C0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C9D2-89C1-455A-9669-15A181D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121-302C-4060-9ABC-79D94BF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D1E2-2B3E-47C7-AB73-980D4437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2FB5-BE1C-44E9-ABC5-A669047E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70F-12E8-4CA8-9685-D624F63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8015-2542-4858-8CC3-3EA0C7F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4BF-0E0B-4299-8129-7B69EB5A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72D-7715-4717-BE87-8B8BC98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922C-751D-47F6-9F28-694C34E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E7EA-FC4E-4D42-82A7-C5B4094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D90-46BA-496D-821A-DD34B110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678-6532-4687-824A-CDF28CC0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49F-7E7B-4814-B8CF-BC75E01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DA4-DBE0-4D2E-A575-DF9AA429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3A6-3B6A-47B9-91A3-F42C337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ED5-1A01-4284-B39F-9BDD64F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D52-F21B-4486-9126-6EA4FC7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B7-2D3A-40A4-A6C1-52B0E8E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2C5-6E44-4771-95F1-C1A8D40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55C-9C5A-4A8E-B033-A9CFA40A14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D82-4583-48A8-81D4-E681AD4E3B3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209680" y="990720"/>
            <a:ext cx="4876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Comidas Del Dia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62320" y="4800600"/>
            <a:ext cx="42764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Marissa Rizzol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e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0880" y="533520"/>
            <a:ext cx="836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ra el Desayuno me gust come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2133720" cy="18507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362320" cy="1650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rot="441000">
            <a:off x="22824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 Black"/>
              </a:rPr>
              <a:t>La rosquill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 rot="10059000">
            <a:off x="2971800" y="243720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La lec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475200">
            <a:off x="4952520" y="419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El toci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1310800">
            <a:off x="6846120" y="2972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Los panquequ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0"/>
            <a:ext cx="6781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Para el almuerzo me gusta come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057400" cy="1954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6324480" y="4648320"/>
            <a:ext cx="2133720" cy="1822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1981440" cy="1968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6019920" y="1295280"/>
            <a:ext cx="2590560" cy="1724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89548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 Black"/>
              </a:rPr>
              <a:t>El perro calient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3657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os nuggets de poll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5867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a ensalad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El batid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El mac y el ques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3352680" y="28954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762120" y="152280"/>
            <a:ext cx="676260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99ff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ara la cena me gusta comer: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50000">
                    <a:srgbClr val="0099ff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914400" cy="175284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3305160" y="2529000"/>
            <a:ext cx="2533680" cy="1800000"/>
            <a:chOff x="3305160" y="2529000"/>
            <a:chExt cx="2533680" cy="1800000"/>
          </a:xfrm>
        </p:grpSpPr>
        <p:sp>
          <p:nvSpPr>
            <p:cNvPr id="376" name=""/>
            <p:cNvSpPr txBox="1"/>
            <p:nvPr/>
          </p:nvSpPr>
          <p:spPr>
            <a:xfrm>
              <a:off x="3305160" y="2529000"/>
              <a:ext cx="253368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1905120" cy="1846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2209680" cy="1655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899400">
            <a:off x="3123720" y="23619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os nach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1216000">
            <a:off x="5562720" y="3580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El arroz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620400">
            <a:off x="3733560" y="50288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a past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1270000">
            <a:off x="76176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a soda de crem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09680" y="304920"/>
            <a:ext cx="421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99ff"/>
                    </a:gs>
                  </a:gsLst>
                  <a:lin ang="13500000"/>
                </a:gradFill>
                <a:latin typeface="Times New Roman"/>
              </a:rPr>
              <a:t>Los Pos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99ff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2209680" cy="1760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2133720" cy="1716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1905120" cy="1765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rot="741600">
            <a:off x="228240" y="4495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Los browni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672400">
            <a:off x="1981080" y="3429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El helado de vanill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52000">
            <a:off x="4495320" y="426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Las magdalen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881200">
            <a:off x="6705360" y="243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El chocolate pretzels cubiert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6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99cc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362320" y="152280"/>
            <a:ext cx="48006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Los bacadill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1355760" cy="1790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6248520" y="4648320"/>
            <a:ext cx="1904760" cy="16365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172200" y="1676520"/>
            <a:ext cx="1752480" cy="1663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1828800" cy="1757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666880" y="190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os tatas de pop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3581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a manzan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5638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 limonada rosad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4038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s papas frit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218960" cy="1571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429000" y="4495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l queso de s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6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42Z</dcterms:created>
  <dc:creator>rizzolomar</dc:creator>
  <dc:description/>
  <dc:language>en-US</dc:language>
  <cp:lastModifiedBy>rizzolomar</cp:lastModifiedBy>
  <dcterms:modified xsi:type="dcterms:W3CDTF">2012-04-05T13:56:36Z</dcterms:modified>
  <cp:revision>13</cp:revision>
  <dc:subject/>
  <dc:title>Las Comidas</dc:title>
</cp:coreProperties>
</file>